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3F34-3F10-4FDF-B889-DE6A835B7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C7A9-7B4D-4D02-802E-E163A8EF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DB9F-934A-4730-ACFE-531ED636E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5C33-2D6D-4939-A18A-8A896F9FC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B224-ED8C-4AFB-82CC-9F52EE809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B07B-8969-4A65-A0BC-7F4B9E42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F90B-D463-48E4-9CA0-552F56DD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55B6-A789-48D1-B918-D9865092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C8DA-54B7-4C84-912B-5C2B3BE8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2231-11FD-4A8C-88EA-8E9EE7F2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125F-B99E-4C48-9F13-164CD90C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6EA5-4A53-476C-8C04-00845ED3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344C-9F8D-4A3B-9059-2172254B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077E8-2062-42F9-B2F6-78174265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D215-92FC-4D0B-A6D3-2F250754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A2F2-3AEA-4276-BC95-A164E8B77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7AA8-5508-4947-8A4E-74B599705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625D-61EC-4337-8AA6-69E852DF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2D42-174D-46CB-8667-FA3618CF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795E-F807-4BDD-BF8E-9713016C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61B1-3ABF-49DF-ADA7-F9C4396C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9AE9-6D7A-4A4F-8A56-1B632C18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64DC-DA6C-4E0F-8CB1-56299F83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837D-AA5D-47BC-81F1-603D6288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6442-B4AF-42EF-AED5-BEFC7932D2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66DB-20BA-4EAB-97EB-020953CF2B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structional Problem, Model, &amp;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y Catherine McGow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UC 53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structional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ents are unable to identify and apply addition concepts and skills in preparation for the GED math subject te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order to move to the next course level, students must be able to master basic addition concepts and skil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D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rrison, Ross, and Kemp (2004) ISD mode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-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world situ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145120" y="2362320"/>
            <a:ext cx="380988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structional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gnitive Apprenticesh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cher as facilita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-based pro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thentic, performance-based assess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affolded instru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cial Constructivist/Situated Cognition learning theo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llaborat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aptable to many learning situ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ows for student refle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145120" y="2813040"/>
            <a:ext cx="380988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6T20:27:56Z</dcterms:created>
  <dc:creator>Catherine</dc:creator>
  <dc:description/>
  <dc:language>en-US</dc:language>
  <cp:lastModifiedBy>Catherine</cp:lastModifiedBy>
  <dcterms:modified xsi:type="dcterms:W3CDTF">2009-07-12T00:18:39Z</dcterms:modified>
  <cp:revision>2</cp:revision>
  <dc:subject/>
  <dc:title>Instructional Problem, Model, &amp; Strategy</dc:title>
</cp:coreProperties>
</file>